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454F-0BF6-4969-BB3D-14927C68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FCAD-F0D4-4DC9-A979-7781F0BB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95B2-8E9D-4140-9F78-B238446C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CAB0-CA79-4434-A4F0-DE7278DC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80E2-D508-41A1-B677-873719EC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CA27-4983-409B-863B-5E423F1F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3033-686B-40E9-BD93-675BFC98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A984-AF4F-4002-87C7-7FC66115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3AC0-208F-4F5B-B9DF-E776096E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4FED-8657-4502-A7C2-83D6F74F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61CF-360C-4B2C-826B-3DDCC7E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0B58-44E5-4065-8C3D-E2FA0575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CED-C855-4B78-BAE8-A4FABB5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B600-30A1-4E44-8E37-F1802F57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895-F7BA-4EC7-A621-757103D3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EFFE-1A25-4C33-AF7A-7440B31F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89F6-4BCC-441D-918A-F1C2DA6F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626F-5886-4B9E-BE57-38AAD051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668B-18F7-4519-AF6E-D1EF3BE5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880C-9EF8-4E9D-A97C-A3767CE3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A13B-4558-437E-B063-86F89C8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2B22-88F1-4CCF-9D43-B9728502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19ED-B96C-47D3-9134-52CC9F64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9D4E-7C43-45CB-A3AD-92559BCF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E7AA-C619-40BC-BFE7-7A1B8E525C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751f"/>
                  </a:gs>
                  <a:gs pos="100000">
                    <a:srgbClr val="c3822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751f"/>
                  </a:gs>
                  <a:gs pos="100000">
                    <a:srgbClr val="c382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a1c"/>
                  </a:gs>
                  <a:gs pos="100000">
                    <a:srgbClr val="c382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c382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8223"/>
                  </a:gs>
                  <a:gs pos="100000">
                    <a:srgbClr val="aa7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c38223"/>
                </a:gs>
                <a:gs pos="100000">
                  <a:srgbClr val="a46d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e5314"/>
                </a:gs>
                <a:gs pos="100000">
                  <a:srgbClr val="c382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0e05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83e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130e0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83e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751f"/>
                  </a:gs>
                  <a:gs pos="100000">
                    <a:srgbClr val="c3822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751f"/>
                  </a:gs>
                  <a:gs pos="100000">
                    <a:srgbClr val="c382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a1c"/>
                  </a:gs>
                  <a:gs pos="100000">
                    <a:srgbClr val="c382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c382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8223"/>
                  </a:gs>
                  <a:gs pos="100000">
                    <a:srgbClr val="aa7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c38223"/>
                </a:gs>
                <a:gs pos="100000">
                  <a:srgbClr val="a46d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e5314"/>
                </a:gs>
                <a:gs pos="100000">
                  <a:srgbClr val="c382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30e05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F261-49AE-4AAB-AB1F-B358A982EF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130e05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83e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01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How did we know about life in ancient Egypt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radley Hand ITC"/>
              </a:rPr>
              <a:t>From document written on papyrus, from hieroglyphics on stones, from wall paintings on objects found in tomb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06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73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did the people put in a pyramid with a mummy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Food clothes and jewell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78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81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o guarded the tombs of the pharaohs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Soldi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86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89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o was Tutankhamun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He was one of the most famous pharaoh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94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09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did people in ancient Egypt wear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They wore light clothes and sanda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14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17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work did the Egyptians do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Many worked as farmers and helped to build the pyrami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22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25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did the weavers do in ancient Egypt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They made beautiful clothes and sold them to other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30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33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animals did the Egyptians keep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Fish, ducks, geese, goats, sheep, cattle, pigs and hor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38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41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did the Egyptians eat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Fish, meat, eggs, milk, vegetables and frui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46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49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wear the most popular sports for men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Hunting and fis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54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57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ich people were there at rich Egyptians‘ parties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Musicians, singers, dancers, jugglers and acroba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62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65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happened to a pharaoh when he died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Priests put him inside a pyram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70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06:34Z</dcterms:created>
  <dc:creator>Franziska</dc:creator>
  <dc:description/>
  <dc:language>en-US</dc:language>
  <cp:lastModifiedBy>Franziska</cp:lastModifiedBy>
  <dcterms:modified xsi:type="dcterms:W3CDTF">2011-04-06T16:47:43Z</dcterms:modified>
  <cp:revision>2</cp:revision>
  <dc:subject/>
  <dc:title>How did we know about life in ancient Egypt?</dc:title>
</cp:coreProperties>
</file>